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793-3D8D-46C4-BB23-BE9DCDD7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8DC-18A1-46EB-84BF-5CF4CDA7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145-FBBC-40E7-8501-D8695321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88B-D5D0-4E93-887F-1BB6353B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6F59-29F1-4919-9CE0-829D2F34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C2E6-DF01-47F5-A5CB-EE1FF2B3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F8E3-E07D-42DA-8417-653F4A90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D3F2-C18A-40E5-9E70-F01451AF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08E-E872-42CE-8A7B-28476278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9B9-86FD-4196-BAF8-00CC2F58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D102-B2AF-44D7-B5E0-651CA30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2E2-7B91-43AC-B59D-4FA59A4B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457F-913B-4508-B9F5-F518E2A5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F883-1417-4004-AD06-8104820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4284-85CF-4246-BF14-738308B2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1537-D161-47E6-ADD8-9CA4D7D0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6831-AE02-4117-B24C-46561EBD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100-1074-442B-B90E-1B6C5BF2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ACD-3CDF-49D6-8EE3-1E3841A7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ECC-665B-4E29-BDCE-508E7CFB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A0C-363C-4786-8231-E9EE5DED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A74-E265-4D2F-9902-11FF34D6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752-F42F-44A4-9686-1E8288B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079-0BFA-442B-9A85-4BF75FD6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03160" y="406440"/>
            <a:ext cx="5711760" cy="1474560"/>
            <a:chOff x="803160" y="406440"/>
            <a:chExt cx="5711760" cy="1474560"/>
          </a:xfrm>
        </p:grpSpPr>
        <p:sp>
          <p:nvSpPr>
            <p:cNvPr id="1" name="Oval 3"/>
            <p:cNvSpPr/>
            <p:nvPr/>
          </p:nvSpPr>
          <p:spPr>
            <a:xfrm flipH="1">
              <a:off x="3651480" y="406440"/>
              <a:ext cx="828720" cy="1472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5686920" y="406440"/>
              <a:ext cx="827640" cy="1472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803160" y="408240"/>
              <a:ext cx="827280" cy="147276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4742280" y="406440"/>
              <a:ext cx="827640" cy="14727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1768680" y="406440"/>
              <a:ext cx="828720" cy="147276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F0A-EAA5-4B5E-A985-5DFCDE8E66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244520" y="2133720"/>
            <a:ext cx="5127480" cy="4266360"/>
            <a:chOff x="1244520" y="2133720"/>
            <a:chExt cx="5127480" cy="4266360"/>
          </a:xfrm>
        </p:grpSpPr>
        <p:sp>
          <p:nvSpPr>
            <p:cNvPr id="48" name="Oval 3"/>
            <p:cNvSpPr/>
            <p:nvPr/>
          </p:nvSpPr>
          <p:spPr>
            <a:xfrm flipH="1">
              <a:off x="5229360" y="2133720"/>
              <a:ext cx="114264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3885480" y="2133720"/>
              <a:ext cx="114300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2542680" y="2133720"/>
              <a:ext cx="1143000" cy="2031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2542680" y="4368600"/>
              <a:ext cx="114300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244520" y="4368600"/>
              <a:ext cx="1142640" cy="2031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5229360" y="4368600"/>
              <a:ext cx="1142640" cy="2031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9B6C-020D-4175-A3A9-F57253F8D3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3360" y="179280"/>
            <a:ext cx="6337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ЛОК-СХЕМА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следовательности действий при исполнении муниципальной услуги – выдачи разрешений на проведение муниципальных лотер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28520" y="1258920"/>
            <a:ext cx="4800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04640" y="971640"/>
            <a:ext cx="6048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052640" y="1692360"/>
            <a:ext cx="4319640" cy="28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ием и регистрация 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49360" y="971640"/>
            <a:ext cx="5832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чало исполнения муниципальной функции: поступление заявления о предоставлении разрешения и пакета документов от юридического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133720" y="214488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33360" y="2195640"/>
            <a:ext cx="619272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49360" y="2195640"/>
            <a:ext cx="60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Рассмотрение документов на предмет полноты и правильности их оформления и соответствия требованиям законодательства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333360" y="3132000"/>
            <a:ext cx="1584360" cy="93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20"/>
          <p:cNvCxnSpPr>
            <a:stCxn id="99" idx="2"/>
            <a:endCxn id="99" idx="2"/>
          </p:cNvCxnSpPr>
          <p:nvPr/>
        </p:nvCxnSpPr>
        <p:spPr>
          <a:xfrm>
            <a:off x="3465360" y="1816200"/>
            <a:ext cx="3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Line 21"/>
          <p:cNvSpPr/>
          <p:nvPr/>
        </p:nvSpPr>
        <p:spPr>
          <a:xfrm>
            <a:off x="3284640" y="1476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3284640" y="1979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4632480" y="3224160"/>
            <a:ext cx="117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33"/>
          <p:cNvCxnSpPr/>
          <p:nvPr/>
        </p:nvCxnSpPr>
        <p:spPr>
          <a:xfrm flipH="1" rot="16200000">
            <a:off x="4280760" y="2135520"/>
            <a:ext cx="419760" cy="154872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36"/>
          <p:cNvCxnSpPr/>
          <p:nvPr/>
        </p:nvCxnSpPr>
        <p:spPr>
          <a:xfrm rot="5400000">
            <a:off x="2024640" y="1942920"/>
            <a:ext cx="419760" cy="193428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Rectangle 37"/>
          <p:cNvSpPr/>
          <p:nvPr/>
        </p:nvSpPr>
        <p:spPr>
          <a:xfrm>
            <a:off x="3860640" y="3132000"/>
            <a:ext cx="2737080" cy="1366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4581360" y="4859280"/>
            <a:ext cx="2067120" cy="1225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2276640" y="3132000"/>
            <a:ext cx="122364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333360" y="4788000"/>
            <a:ext cx="1727280" cy="10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3860640" y="6443640"/>
            <a:ext cx="242604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3860640" y="7380360"/>
            <a:ext cx="2426040" cy="64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89000" y="6084720"/>
            <a:ext cx="2425680" cy="115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260280" y="7524720"/>
            <a:ext cx="24256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ыдача раз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260280" y="8388360"/>
            <a:ext cx="61930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сполнение муниципальной функции заверш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7"/>
          <p:cNvSpPr/>
          <p:nvPr/>
        </p:nvSpPr>
        <p:spPr>
          <a:xfrm>
            <a:off x="3789360" y="313200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правление запроса заявителю о предоставлении недостающих документов(документы направлены почтой) или несоответствующих 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4508640" y="4859280"/>
            <a:ext cx="2205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явитель не представил недостающие документы и (или) имеются основания для отказа в выдаче раз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2060640" y="3132000"/>
            <a:ext cx="165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явитель представил или заменил необходимые доку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60280" y="3059280"/>
            <a:ext cx="172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дготовка и принятие решения о выдаче раз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260280" y="6084720"/>
            <a:ext cx="230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дготовка разрешения на проведение муниципальной лотереи и выписки из муниципального реестра лоте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8"/>
          <p:cNvSpPr/>
          <p:nvPr/>
        </p:nvSpPr>
        <p:spPr>
          <a:xfrm>
            <a:off x="3860640" y="644364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дготовка и принятие решения об отказе в выдаче раз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1"/>
          <p:cNvSpPr/>
          <p:nvPr/>
        </p:nvSpPr>
        <p:spPr>
          <a:xfrm>
            <a:off x="3860640" y="73994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3860640" y="7308720"/>
            <a:ext cx="237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Направление (вручение) заявителю отказа в выдаче раз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7"/>
          <p:cNvSpPr/>
          <p:nvPr/>
        </p:nvSpPr>
        <p:spPr>
          <a:xfrm>
            <a:off x="5805360" y="4500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0"/>
          <p:cNvSpPr/>
          <p:nvPr/>
        </p:nvSpPr>
        <p:spPr>
          <a:xfrm>
            <a:off x="5157720" y="6084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1"/>
          <p:cNvSpPr/>
          <p:nvPr/>
        </p:nvSpPr>
        <p:spPr>
          <a:xfrm>
            <a:off x="5157720" y="7164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4"/>
          <p:cNvSpPr/>
          <p:nvPr/>
        </p:nvSpPr>
        <p:spPr>
          <a:xfrm>
            <a:off x="1197000" y="7236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5"/>
          <p:cNvCxnSpPr/>
          <p:nvPr/>
        </p:nvCxnSpPr>
        <p:spPr>
          <a:xfrm rot="5400000">
            <a:off x="4170240" y="7356960"/>
            <a:ext cx="349920" cy="1691640"/>
          </a:xfrm>
          <a:prstGeom prst="bentConnector3">
            <a:avLst>
              <a:gd name="adj1" fmla="val 503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78"/>
          <p:cNvCxnSpPr/>
          <p:nvPr/>
        </p:nvCxnSpPr>
        <p:spPr>
          <a:xfrm flipH="1" rot="16200000">
            <a:off x="1923840" y="7229160"/>
            <a:ext cx="430920" cy="1884960"/>
          </a:xfrm>
          <a:prstGeom prst="bentConnector3">
            <a:avLst>
              <a:gd name="adj1" fmla="val 497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Text Box 79"/>
          <p:cNvSpPr/>
          <p:nvPr/>
        </p:nvSpPr>
        <p:spPr>
          <a:xfrm>
            <a:off x="5159880" y="0"/>
            <a:ext cx="149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2"/>
          <p:cNvSpPr/>
          <p:nvPr/>
        </p:nvSpPr>
        <p:spPr>
          <a:xfrm>
            <a:off x="189000" y="4859280"/>
            <a:ext cx="201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несение в реестр муниципальных лотерей записи о лотере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3"/>
          <p:cNvSpPr/>
          <p:nvPr/>
        </p:nvSpPr>
        <p:spPr>
          <a:xfrm flipH="1">
            <a:off x="3499920" y="3564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4"/>
          <p:cNvSpPr/>
          <p:nvPr/>
        </p:nvSpPr>
        <p:spPr>
          <a:xfrm flipH="1">
            <a:off x="1915920" y="3564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5"/>
          <p:cNvSpPr/>
          <p:nvPr/>
        </p:nvSpPr>
        <p:spPr>
          <a:xfrm>
            <a:off x="1052640" y="4067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6"/>
          <p:cNvSpPr/>
          <p:nvPr/>
        </p:nvSpPr>
        <p:spPr>
          <a:xfrm>
            <a:off x="1052640" y="5796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9:51:04Z</dcterms:created>
  <dc:creator>Илья</dc:creator>
  <dc:description/>
  <dc:language>en-US</dc:language>
  <cp:lastModifiedBy>user</cp:lastModifiedBy>
  <dcterms:modified xsi:type="dcterms:W3CDTF">2009-12-31T09:38:14Z</dcterms:modified>
  <cp:revision>16</cp:revision>
  <dc:subject/>
  <dc:title>БЛОК-СХЕМА последовательности действий при исполнении муниципальной функции – выдача разрешений на проведение муниципальных лотерей </dc:title>
</cp:coreProperties>
</file>