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27520-C40C-45B9-B319-4E2C46816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42720" y="5288400"/>
            <a:ext cx="617220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90C8C-BDC3-46ED-865E-7A7653630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342720" y="5288400"/>
            <a:ext cx="301176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505320" y="5288400"/>
            <a:ext cx="301176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60ABC-2488-473D-A0DB-643B5C906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42720" y="5288400"/>
            <a:ext cx="198720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429640" y="5288400"/>
            <a:ext cx="198720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4516560" y="5288400"/>
            <a:ext cx="198720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F8E5B-1996-415C-87D1-0E2B40B0A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B2B67-8EFA-42DC-975E-C9143076A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851C7-30E0-49B5-86F9-9B5A2544C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D934A-AA0F-4268-8FEC-E5CA4251F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E8B83-6B7B-4400-949D-5B2CDCB25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87235-6206-4C24-89CC-3AF566D13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5C87E-3310-4212-B952-C5ADA47A3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42720" y="5288400"/>
            <a:ext cx="301176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BBB50-89B8-4481-A07E-96EB5C34D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3CDB5-21FF-4055-A080-B65245404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505320" y="5288400"/>
            <a:ext cx="301176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D6844-4D2F-473F-B2D4-84DBBB5DA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42720" y="5288400"/>
            <a:ext cx="617220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079F1-4D5D-4FBA-BBFB-08DEFA4EF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42720" y="5288400"/>
            <a:ext cx="617220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D83D0-0E31-4C9B-A20C-1E6771659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342720" y="5288400"/>
            <a:ext cx="301176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505320" y="5288400"/>
            <a:ext cx="301176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34119-E9F6-4C0C-9E9E-01500A068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342720" y="5288400"/>
            <a:ext cx="198720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2429640" y="5288400"/>
            <a:ext cx="198720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4516560" y="5288400"/>
            <a:ext cx="198720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3367D-F570-454E-96A5-355E0B75C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6314F-084D-4794-AABD-AD6050D9A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AB59E-2618-424D-9CBF-99EABF55F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62448-43EF-4BC3-BB2C-55A39EC05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EE77F-23AE-45A6-A5DB-20CF77F20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42720" y="5288400"/>
            <a:ext cx="301176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B070E-7AEA-4861-9C45-C204E37EF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505320" y="5288400"/>
            <a:ext cx="301176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AE883-B833-4A21-83D2-016BEC7B6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2720" y="5288400"/>
            <a:ext cx="617220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B1471-ED81-43D7-9F57-3D6517280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803160" y="406440"/>
            <a:ext cx="5711760" cy="1474560"/>
            <a:chOff x="803160" y="406440"/>
            <a:chExt cx="5711760" cy="1474560"/>
          </a:xfrm>
        </p:grpSpPr>
        <p:sp>
          <p:nvSpPr>
            <p:cNvPr id="1" name="Oval 3"/>
            <p:cNvSpPr/>
            <p:nvPr/>
          </p:nvSpPr>
          <p:spPr>
            <a:xfrm flipH="1">
              <a:off x="3651480" y="406440"/>
              <a:ext cx="828720" cy="147276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Oval 4"/>
            <p:cNvSpPr/>
            <p:nvPr/>
          </p:nvSpPr>
          <p:spPr>
            <a:xfrm flipH="1">
              <a:off x="5686920" y="406440"/>
              <a:ext cx="827640" cy="147276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Oval 5"/>
            <p:cNvSpPr/>
            <p:nvPr/>
          </p:nvSpPr>
          <p:spPr>
            <a:xfrm flipH="1">
              <a:off x="803160" y="408240"/>
              <a:ext cx="827280" cy="147276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Oval 6"/>
            <p:cNvSpPr/>
            <p:nvPr/>
          </p:nvSpPr>
          <p:spPr>
            <a:xfrm flipH="1">
              <a:off x="4742280" y="406440"/>
              <a:ext cx="827640" cy="147276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 flipH="1">
              <a:off x="1768680" y="406440"/>
              <a:ext cx="828720" cy="147276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342720" y="8331120"/>
            <a:ext cx="1600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4914720" y="8331120"/>
            <a:ext cx="1600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99D10-0AE2-4C7D-B6D1-280993FEB328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1244520" y="2133720"/>
            <a:ext cx="5127480" cy="4266360"/>
            <a:chOff x="1244520" y="2133720"/>
            <a:chExt cx="5127480" cy="4266360"/>
          </a:xfrm>
        </p:grpSpPr>
        <p:sp>
          <p:nvSpPr>
            <p:cNvPr id="48" name="Oval 3"/>
            <p:cNvSpPr/>
            <p:nvPr/>
          </p:nvSpPr>
          <p:spPr>
            <a:xfrm flipH="1">
              <a:off x="5229360" y="2133720"/>
              <a:ext cx="1142640" cy="20314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Oval 4"/>
            <p:cNvSpPr/>
            <p:nvPr/>
          </p:nvSpPr>
          <p:spPr>
            <a:xfrm flipH="1">
              <a:off x="3885480" y="2133720"/>
              <a:ext cx="1143000" cy="20314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Oval 5"/>
            <p:cNvSpPr/>
            <p:nvPr/>
          </p:nvSpPr>
          <p:spPr>
            <a:xfrm flipH="1">
              <a:off x="2542680" y="2133720"/>
              <a:ext cx="1143000" cy="20314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6"/>
            <p:cNvSpPr/>
            <p:nvPr/>
          </p:nvSpPr>
          <p:spPr>
            <a:xfrm flipH="1">
              <a:off x="2542680" y="4368600"/>
              <a:ext cx="1143000" cy="20314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Oval 7"/>
            <p:cNvSpPr/>
            <p:nvPr/>
          </p:nvSpPr>
          <p:spPr>
            <a:xfrm flipH="1">
              <a:off x="1244520" y="4368600"/>
              <a:ext cx="1142640" cy="20314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Oval 8"/>
            <p:cNvSpPr/>
            <p:nvPr/>
          </p:nvSpPr>
          <p:spPr>
            <a:xfrm flipH="1">
              <a:off x="5229360" y="4368600"/>
              <a:ext cx="1142640" cy="20314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42720" y="8331120"/>
            <a:ext cx="1600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4914720" y="8331120"/>
            <a:ext cx="1600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AE82C-3A2F-42DC-B86E-266CCC233274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5920" y="179280"/>
            <a:ext cx="674208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БЛОК-СХЕМА</a:t>
            </a:r>
            <a:br>
              <a:rPr sz="1400"/>
            </a:b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последовательности действий при исполнении муниципальной функции – рассмотрение уведомлений о проведении муниципальных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стимулирующих лотере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028520" y="1258920"/>
            <a:ext cx="4800600" cy="122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4"/>
          <p:cNvSpPr/>
          <p:nvPr/>
        </p:nvSpPr>
        <p:spPr>
          <a:xfrm>
            <a:off x="404640" y="971640"/>
            <a:ext cx="6048720" cy="5047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5"/>
          <p:cNvSpPr/>
          <p:nvPr/>
        </p:nvSpPr>
        <p:spPr>
          <a:xfrm>
            <a:off x="1052640" y="1692360"/>
            <a:ext cx="4319640" cy="287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Прием и регистрация документ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6"/>
          <p:cNvSpPr/>
          <p:nvPr/>
        </p:nvSpPr>
        <p:spPr>
          <a:xfrm>
            <a:off x="549360" y="971640"/>
            <a:ext cx="58323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Начало исполнения муниципальной функции: поступление уведомления с приложением документов от организатора лотере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2133720" y="2144880"/>
            <a:ext cx="2663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8"/>
          <p:cNvSpPr/>
          <p:nvPr/>
        </p:nvSpPr>
        <p:spPr>
          <a:xfrm>
            <a:off x="333360" y="2195640"/>
            <a:ext cx="6192720" cy="503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549360" y="2195640"/>
            <a:ext cx="6048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Рассмотрение документов на предмет полноты и правильности их оформления и соответствия требованиям законодательства РФ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0"/>
          <p:cNvSpPr/>
          <p:nvPr/>
        </p:nvSpPr>
        <p:spPr>
          <a:xfrm>
            <a:off x="189000" y="3132000"/>
            <a:ext cx="2519280" cy="10796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AutoShape 11"/>
          <p:cNvCxnSpPr>
            <a:stCxn id="99" idx="2"/>
            <a:endCxn id="99" idx="2"/>
          </p:cNvCxnSpPr>
          <p:nvPr/>
        </p:nvCxnSpPr>
        <p:spPr>
          <a:xfrm>
            <a:off x="3465360" y="1816200"/>
            <a:ext cx="36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Line 12"/>
          <p:cNvSpPr/>
          <p:nvPr/>
        </p:nvSpPr>
        <p:spPr>
          <a:xfrm>
            <a:off x="3284640" y="1476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13"/>
          <p:cNvSpPr/>
          <p:nvPr/>
        </p:nvSpPr>
        <p:spPr>
          <a:xfrm>
            <a:off x="3284640" y="1979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6"/>
          <p:cNvSpPr/>
          <p:nvPr/>
        </p:nvSpPr>
        <p:spPr>
          <a:xfrm>
            <a:off x="4632480" y="3224160"/>
            <a:ext cx="1172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8" name="AutoShape 19"/>
          <p:cNvCxnSpPr/>
          <p:nvPr/>
        </p:nvCxnSpPr>
        <p:spPr>
          <a:xfrm rot="5400000">
            <a:off x="2024640" y="1942920"/>
            <a:ext cx="419760" cy="1934280"/>
          </a:xfrm>
          <a:prstGeom prst="bentConnector3">
            <a:avLst>
              <a:gd name="adj1" fmla="val 4995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9" name="Rectangle 20"/>
          <p:cNvSpPr/>
          <p:nvPr/>
        </p:nvSpPr>
        <p:spPr>
          <a:xfrm>
            <a:off x="3645000" y="3203640"/>
            <a:ext cx="3024000" cy="10080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25"/>
          <p:cNvSpPr/>
          <p:nvPr/>
        </p:nvSpPr>
        <p:spPr>
          <a:xfrm>
            <a:off x="3716280" y="6227640"/>
            <a:ext cx="2737080" cy="15130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26"/>
          <p:cNvSpPr/>
          <p:nvPr/>
        </p:nvSpPr>
        <p:spPr>
          <a:xfrm>
            <a:off x="404640" y="4788000"/>
            <a:ext cx="2448000" cy="11523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27"/>
          <p:cNvSpPr/>
          <p:nvPr/>
        </p:nvSpPr>
        <p:spPr>
          <a:xfrm>
            <a:off x="476280" y="6156360"/>
            <a:ext cx="2521080" cy="1511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28"/>
          <p:cNvSpPr/>
          <p:nvPr/>
        </p:nvSpPr>
        <p:spPr>
          <a:xfrm>
            <a:off x="260280" y="8388360"/>
            <a:ext cx="6193080" cy="5763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Исполнение муниципальной функции завершен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29"/>
          <p:cNvSpPr/>
          <p:nvPr/>
        </p:nvSpPr>
        <p:spPr>
          <a:xfrm>
            <a:off x="3789360" y="3348000"/>
            <a:ext cx="2808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Подготовка и принятие решения о запрете проведения стимулирующей лотере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33"/>
          <p:cNvSpPr/>
          <p:nvPr/>
        </p:nvSpPr>
        <p:spPr>
          <a:xfrm>
            <a:off x="115920" y="3059280"/>
            <a:ext cx="25909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Подготовка уведомления о внесении сведений о стимулирующей лотереи в реестр муниципальных лотере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34"/>
          <p:cNvSpPr/>
          <p:nvPr/>
        </p:nvSpPr>
        <p:spPr>
          <a:xfrm>
            <a:off x="260280" y="4716360"/>
            <a:ext cx="280836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Внесение в муниципальный реестр лотерей городского округа «Город Калининград» информации о проведении стимулирующей лотере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36"/>
          <p:cNvSpPr/>
          <p:nvPr/>
        </p:nvSpPr>
        <p:spPr>
          <a:xfrm>
            <a:off x="3860640" y="7399440"/>
            <a:ext cx="2448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37"/>
          <p:cNvSpPr/>
          <p:nvPr/>
        </p:nvSpPr>
        <p:spPr>
          <a:xfrm>
            <a:off x="3645000" y="6443640"/>
            <a:ext cx="28098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Направление (вручение) организатору лотереи решения о запрете проведения стимулирующей лотере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AutoShape 47"/>
          <p:cNvCxnSpPr/>
          <p:nvPr/>
        </p:nvCxnSpPr>
        <p:spPr>
          <a:xfrm flipH="1" rot="16200000">
            <a:off x="1988280" y="7163280"/>
            <a:ext cx="721440" cy="1729440"/>
          </a:xfrm>
          <a:prstGeom prst="bentConnector3">
            <a:avLst>
              <a:gd name="adj1" fmla="val 499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0" name="Text Box 48"/>
          <p:cNvSpPr/>
          <p:nvPr/>
        </p:nvSpPr>
        <p:spPr>
          <a:xfrm>
            <a:off x="404640" y="6227640"/>
            <a:ext cx="24480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Направление (вручение) организатору стимулирующей лотереи уведомления о внесении лотереи в муниципальный реестр лотере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52"/>
          <p:cNvSpPr/>
          <p:nvPr/>
        </p:nvSpPr>
        <p:spPr>
          <a:xfrm>
            <a:off x="5445000" y="4211640"/>
            <a:ext cx="0" cy="20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2" name="AutoShape 57"/>
          <p:cNvCxnSpPr/>
          <p:nvPr/>
        </p:nvCxnSpPr>
        <p:spPr>
          <a:xfrm rot="5400000">
            <a:off x="4140360" y="7061760"/>
            <a:ext cx="622800" cy="1980360"/>
          </a:xfrm>
          <a:prstGeom prst="bentConnector3">
            <a:avLst>
              <a:gd name="adj1" fmla="val 4794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3" name="Text Box 58"/>
          <p:cNvSpPr/>
          <p:nvPr/>
        </p:nvSpPr>
        <p:spPr>
          <a:xfrm>
            <a:off x="5734080" y="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59"/>
          <p:cNvSpPr/>
          <p:nvPr/>
        </p:nvSpPr>
        <p:spPr>
          <a:xfrm>
            <a:off x="5300640" y="108000"/>
            <a:ext cx="147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риложение №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60"/>
          <p:cNvSpPr/>
          <p:nvPr/>
        </p:nvSpPr>
        <p:spPr>
          <a:xfrm>
            <a:off x="1268280" y="428472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61"/>
          <p:cNvSpPr/>
          <p:nvPr/>
        </p:nvSpPr>
        <p:spPr>
          <a:xfrm>
            <a:off x="1268280" y="5940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7" name="AutoShape 62"/>
          <p:cNvCxnSpPr>
            <a:stCxn id="102" idx="2"/>
            <a:endCxn id="107" idx="0"/>
          </p:cNvCxnSpPr>
          <p:nvPr/>
        </p:nvCxnSpPr>
        <p:spPr>
          <a:xfrm flipH="1" rot="16200000">
            <a:off x="4141800" y="2147040"/>
            <a:ext cx="508680" cy="16459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0T09:51:04Z</dcterms:created>
  <dc:creator>Илья</dc:creator>
  <dc:description/>
  <dc:language>en-US</dc:language>
  <cp:lastModifiedBy>user</cp:lastModifiedBy>
  <dcterms:modified xsi:type="dcterms:W3CDTF">2009-12-31T09:38:31Z</dcterms:modified>
  <cp:revision>16</cp:revision>
  <dc:subject/>
  <dc:title>БЛОК-СХЕМА последовательности действий при исполнении муниципальной функции – выдача разрешений на проведение муниципальных лотерей </dc:title>
</cp:coreProperties>
</file>